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62400" cy="4114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B3F-8709-414C-B9E5-372B4DC4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17867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163680" y="24761160"/>
            <a:ext cx="17867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F33-D443-480F-8B8A-6B5C93DB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16368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31884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03A-F879-443C-890D-2F38CB43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204840" y="118425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46000" y="118425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163680" y="247611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9204840" y="247611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246000" y="24761160"/>
            <a:ext cx="5753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A73-D10B-43E3-991F-7F5E9C51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163680" y="11842560"/>
            <a:ext cx="17867160" cy="2473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62F-3EC1-4F12-ABA5-745F4237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1786716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899D-DF02-436A-8B58-FA7DCB2C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424-94F5-406E-96D9-48024BF5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BA5C-9D43-4219-A8EC-2E21D131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63680" y="3660480"/>
            <a:ext cx="35736120" cy="317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2F25-B4B7-42D1-B378-E1812DB5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16368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BDB-79E4-426C-B5D3-F3DC8C31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318840" y="247611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2BF7-DEFF-4FC6-B8E0-7F8B32E6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6368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318840" y="11842560"/>
            <a:ext cx="871884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63680" y="24761160"/>
            <a:ext cx="17867160" cy="1179756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8ED-154B-46FF-AD1A-9BD3E840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3680" y="3660480"/>
            <a:ext cx="35736120" cy="685620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ctr">
            <a:noAutofit/>
          </a:bodyPr>
          <a:p>
            <a:pPr indent="0" algn="ctr"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3680" y="11842560"/>
            <a:ext cx="17867160" cy="247330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rmAutofit/>
          </a:bodyPr>
          <a:p>
            <a:pPr marL="608040" indent="-6080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316160" indent="-50652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2019240" indent="-3999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2832120" indent="-4078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3641760" indent="-405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3641760" indent="-405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3641760" indent="-4050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3680" y="37486800"/>
            <a:ext cx="8762760" cy="27478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74800" y="37486800"/>
            <a:ext cx="13314240" cy="27478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37040" y="37486800"/>
            <a:ext cx="8763120" cy="2747880"/>
          </a:xfrm>
          <a:prstGeom prst="rect">
            <a:avLst/>
          </a:prstGeom>
          <a:noFill/>
          <a:ln w="0">
            <a:noFill/>
          </a:ln>
        </p:spPr>
        <p:txBody>
          <a:bodyPr lIns="-59760" rIns="-59760" tIns="81000" bIns="81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  <a:defRPr b="0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619280"/>
                <a:tab algn="l" pos="3238560"/>
                <a:tab algn="l" pos="4857840"/>
                <a:tab algn="l" pos="6477120"/>
                <a:tab algn="l" pos="8096400"/>
                <a:tab algn="l" pos="9715680"/>
              </a:tabLst>
            </a:pPr>
            <a:fld id="{DB6897CD-7218-4907-9211-76AC0C899AB8}" type="slidenum">
              <a:rPr b="0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590000" y="23402880"/>
            <a:ext cx="1712880" cy="394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biocyc.org/otherpgdbs.shtml" TargetMode="External"/><Relationship Id="rId5" Type="http://schemas.openxmlformats.org/officeDocument/2006/relationships/hyperlink" Target="http://biocyc.org/query.shtml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89240" y="279360"/>
            <a:ext cx="332996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An Advanced Web Query Interface for Biological Database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9320" y="1714680"/>
            <a:ext cx="2640636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Peter D. Karp, Mario Latendress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  <a:ea typeface="Times New Roman"/>
              </a:rPr>
              <a:t>Bioinformatics Research Group, SRI International, Menlo Park CA USA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i="1" lang="en-US" sz="4100" spc="-1" strike="noStrike">
                <a:solidFill>
                  <a:srgbClr val="000000"/>
                </a:solidFill>
                <a:latin typeface="Arial"/>
              </a:rPr>
              <a:t>bioinformatics.ai.sri.com/ptools/          BioCyc.org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97040" y="5915160"/>
            <a:ext cx="12538080" cy="12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thway Too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ftware [1] is used to create, query, curate, and analyze Pathway/Genome Databases (PGDBs). A PGDB integrates information about genomes, metabolic pathways, and regulatory network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hway Tools operations includ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ry and update genome and pathway anno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diction of metabolic network from genome sequ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sual analysis of omics datas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arative analy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twork analysis and debugg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arge number of PGDBs are accessible on the Internet from Pathway Tools based Web sites that provide the exploration capabilities described he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thway Tools Avail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eely available to academics and non-profits.  Licensed by 2,100 group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s on PC/Linux, PC/Windows, Macintos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enc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1] Karp, P.D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riefings in Bioinformatic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2010 11:40-79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[2] Latendresse, M. and Karp, P.D.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ataba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2010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upported b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grants GM75742 and GM080746 from the National Institutes of Health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19973880"/>
            <a:ext cx="20043720" cy="19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299280" y="736560"/>
            <a:ext cx="2022480" cy="157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273320" y="4876920"/>
            <a:ext cx="1266984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4. Pathway/Genome Databases on the Intern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071760" y="4902120"/>
            <a:ext cx="1055520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2. Structured Advanced Query For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52720" y="17915040"/>
            <a:ext cx="0" cy="8659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34040" y="2482920"/>
            <a:ext cx="2691000" cy="93672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429240" y="1028880"/>
            <a:ext cx="2097360" cy="8841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990720" y="4800600"/>
            <a:ext cx="1135368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. 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4120" y="5991120"/>
            <a:ext cx="12769560" cy="9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le PGDBs  include the following.  Web links to all available from </a:t>
            </a: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BioCyc.org/otherpgdbs.shtm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find them using Goog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crob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Cyc – 670 microbial PGDBs including EcoCyc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K-1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oCyc – 33 Bioenergy organis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o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reptomyces coelicol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eudo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seudomonas aeruginos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RIC – Bacterial pathoge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iCyc – 8 apicomplexan PGD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ung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ast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accharomyces cerevisia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bi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andida albic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Cyc – 7 Solanacea PGDB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lamy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hlamydomonas reinhardti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a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rabidopsis thalia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ceCyc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Oryza sativ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Cyc – General plant PGD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mmali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useCyc, HumanCyc, CattleCy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9040" y="428760"/>
            <a:ext cx="28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ter E02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555560" y="428760"/>
            <a:ext cx="41940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ter Ka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RI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33 Ravenswood Ave, Menlo Park CA 94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650-859-43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360400" y="6102360"/>
            <a:ext cx="12080880" cy="83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ing precise and complicated queries against biological databases (DBs) usually requires programming ski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Web-based DB query forms are quite restricted in power of queries they can supp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hway Tools Structured Advanced Query Form (SAQP)  [2]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friend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precise and complicated que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multiple conditions and connecti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s connections between object typ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ma driv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active documentation on DB sche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to find the SAQP on the Web: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biocyc.org/query.shtm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arch -&gt; Advanced at any Pathway Tools driven Web si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4880" indent="-325440">
              <a:lnSpc>
                <a:spcPct val="100000"/>
              </a:lnSpc>
              <a:tabLst>
                <a:tab algn="l" pos="0"/>
                <a:tab algn="l" pos="1452600"/>
                <a:tab algn="l" pos="2905200"/>
                <a:tab algn="l" pos="4357800"/>
                <a:tab algn="l" pos="5810400"/>
                <a:tab algn="l" pos="7262640"/>
                <a:tab algn="l" pos="8715240"/>
                <a:tab algn="l" pos="1016784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2362320" y="19964520"/>
            <a:ext cx="9239040" cy="11439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2438280" y="32489640"/>
            <a:ext cx="9172800" cy="8429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14935320" y="19354680"/>
            <a:ext cx="10515600" cy="11325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5468480" y="31470480"/>
            <a:ext cx="9734760" cy="9601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29184480" y="19345320"/>
            <a:ext cx="9239400" cy="11439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29260800" y="31699080"/>
            <a:ext cx="9229680" cy="8163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066680" y="30632400"/>
            <a:ext cx="685800" cy="2133720"/>
          </a:xfrm>
          <a:custGeom>
            <a:avLst/>
            <a:gdLst>
              <a:gd name="textAreaLeft" fmla="*/ 91800 w 685800"/>
              <a:gd name="textAreaRight" fmla="*/ 594000 w 685800"/>
              <a:gd name="textAreaTop" fmla="*/ 373320 h 2133720"/>
              <a:gd name="textAreaBottom" fmla="*/ 154692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812880" y="30022920"/>
            <a:ext cx="685800" cy="2133360"/>
          </a:xfrm>
          <a:custGeom>
            <a:avLst/>
            <a:gdLst>
              <a:gd name="textAreaLeft" fmla="*/ 91800 w 685800"/>
              <a:gd name="textAreaRight" fmla="*/ 594000 w 685800"/>
              <a:gd name="textAreaTop" fmla="*/ 373320 h 2133360"/>
              <a:gd name="textAreaBottom" fmla="*/ 1546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92320" y="30022920"/>
            <a:ext cx="685800" cy="2133360"/>
          </a:xfrm>
          <a:custGeom>
            <a:avLst/>
            <a:gdLst>
              <a:gd name="textAreaLeft" fmla="*/ 91800 w 685800"/>
              <a:gd name="textAreaRight" fmla="*/ 594000 w 685800"/>
              <a:gd name="textAreaTop" fmla="*/ 373320 h 2133360"/>
              <a:gd name="textAreaBottom" fmla="*/ 1546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18288000"/>
            <a:ext cx="80769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initial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Compounds whose molecular weight is between 400 and 4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a result table that includes the compound name, chemical formula, and molecular 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849720" y="1781496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dditional condition to previous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ultivalued slot Regulates, which lists regulation interactions that the compound regulates, must have more than 0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0" y="17221320"/>
            <a:ext cx="80773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wo additional conditions to previous qu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gulation interaction must have a parent class whose name includes the string “enzym”, indicating that it involves regulation of enzyme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 of regulation must be positive (activ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868280" y="16382880"/>
            <a:ext cx="12669840" cy="605160"/>
          </a:xfrm>
          <a:prstGeom prst="rect">
            <a:avLst/>
          </a:prstGeom>
          <a:solidFill>
            <a:srgbClr val="eb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1560"/>
                <a:tab algn="l" pos="1743120"/>
                <a:tab algn="l" pos="2614680"/>
                <a:tab algn="l" pos="3486240"/>
                <a:tab algn="l" pos="4357800"/>
                <a:tab algn="l" pos="5229360"/>
                <a:tab algn="l" pos="6100920"/>
                <a:tab algn="l" pos="6972480"/>
                <a:tab algn="l" pos="7843680"/>
                <a:tab algn="l" pos="8715240"/>
                <a:tab algn="l" pos="9586800"/>
                <a:tab algn="l" pos="1045836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3. Example Queries and Their Resul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7T11:57:24Z</dcterms:created>
  <dc:creator>Peter Karp</dc:creator>
  <dc:description/>
  <dc:language>en-US</dc:language>
  <cp:lastModifiedBy>GMOD / NESCent</cp:lastModifiedBy>
  <cp:lastPrinted>2000-09-13T00:15:44Z</cp:lastPrinted>
  <dcterms:modified xsi:type="dcterms:W3CDTF">2010-07-15T16:19:48Z</dcterms:modified>
  <cp:revision>194</cp:revision>
  <dc:subject/>
  <dc:title>EcoCyc/MetaCyc Poster</dc:title>
</cp:coreProperties>
</file>